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2451872"/>
        <c:axId val="16880709"/>
      </c:barChart>
      <c:catAx>
        <c:axId val="6245187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880709"/>
        <c:crosses val="autoZero"/>
        <c:auto val="1"/>
        <c:lblAlgn val="ctr"/>
        <c:lblOffset val="100"/>
        <c:noMultiLvlLbl val="0"/>
      </c:catAx>
      <c:valAx>
        <c:axId val="1688070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45187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85DB4-B00D-46D3-AA36-57AE76E71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6597F-8A94-40EC-BED0-EF1D8003D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3780F-6B46-4259-9462-6DFFEB17F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06DC3-ED64-411A-ADD3-84747191F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045CF-7A42-4D8F-BB93-C03828C0C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D8EAF-B40B-48CD-89D5-A322F29C1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CD22B-BCEB-4AC3-957A-840F39834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5AE72-FBE3-42C2-A86F-E7A381331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3FFF0-49E4-4C38-AF35-0DCC79AAA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A8506-4B1C-402A-A5CD-5689ED4DD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F134E-210B-4505-AD6B-B58EBF5CF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CEA76-E50D-4DF5-B4C8-0EBC63B8A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B1A5E0-D266-470A-AEDE-268FAB91E96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