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19211"/>
        <c:axId val="55859942"/>
      </c:barChart>
      <c:catAx>
        <c:axId val="61619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59942"/>
        <c:crosses val="autoZero"/>
        <c:auto val="1"/>
        <c:lblAlgn val="ctr"/>
        <c:lblOffset val="100"/>
        <c:noMultiLvlLbl val="0"/>
      </c:catAx>
      <c:valAx>
        <c:axId val="55859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19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02F-EC82-43B5-A988-5390CB49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9B2-8C48-4DEB-A2F5-3455E2EF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7C5-443E-46F5-B2FD-A9C77995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320-52AC-40FC-A395-21FBA592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DE9-B401-4809-AF10-6A951F83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CF4-AAA0-48BC-A342-B16B46AA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B4D-4F94-4EBC-A07E-95CC2AD4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123-4863-41A0-BD5B-717A189E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82C-5CA2-41B3-9679-7F893F8B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E11-2279-4DCC-A59A-2E14B200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5E1-7247-4361-8D8E-1B366B23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6C7-2B41-409C-A2C5-B5D651E7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51732-94A9-40A8-A0AB-E29F72536E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