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318148"/>
        <c:axId val="82076378"/>
      </c:barChart>
      <c:catAx>
        <c:axId val="363181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6378"/>
        <c:crosses val="autoZero"/>
        <c:auto val="1"/>
        <c:lblAlgn val="ctr"/>
        <c:lblOffset val="100"/>
        <c:noMultiLvlLbl val="0"/>
      </c:catAx>
      <c:valAx>
        <c:axId val="82076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3181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5D7-CD5E-4C07-A8D2-440762D0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8E20-3556-4C4C-ADE5-FE4DEF5AC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10B-DC9A-4DA2-9C0E-4CA5F613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D8CE-3BA5-4749-8637-9079F8E1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B1D9-17B9-4438-BC53-74EEFA4B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D077-0A1B-4CA1-A332-CA503222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9BE-E911-4428-9DBB-C450E8B8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E85-F52C-4952-BAB3-6B45A970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494A-5D71-461B-BC69-4973BA7F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A41-0E38-4203-8461-B9F50FFB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0F38-4A82-49E0-9ADE-7D7223A4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6EE9-57C9-4487-AB13-FEE098B9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4F4B7-275E-4A13-ACFF-1FBCB66383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