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031540"/>
        <c:axId val="13272020"/>
      </c:barChart>
      <c:catAx>
        <c:axId val="950315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72020"/>
        <c:crosses val="autoZero"/>
        <c:auto val="1"/>
        <c:lblAlgn val="ctr"/>
        <c:lblOffset val="100"/>
        <c:noMultiLvlLbl val="0"/>
      </c:catAx>
      <c:valAx>
        <c:axId val="132720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315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F08-5877-4A34-ABC0-50C08172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D6B7-61D4-4F20-85BD-7E177633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B217-A341-43F7-B1C6-E74E999C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77D9-122C-4DF7-B068-76D299E1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A4F1-6DAD-47D5-9849-051D82B4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1ED4-3D47-4FDD-8051-3CD02785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0A3A-E80E-45EF-88F6-D2C67192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B010-901E-4B47-B762-223D1730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B651-EAEE-4EF8-8801-7C0C3111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42C-B4B8-4332-93BF-F2794576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A628-515F-4AB5-B037-32AACCDF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62B-F91F-4ED5-B2AC-156E751B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FBD46-EE87-488D-9FB1-A86217DCB0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