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8993"/>
        <c:axId val="24954536"/>
      </c:barChart>
      <c:catAx>
        <c:axId val="83288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4536"/>
        <c:crosses val="autoZero"/>
        <c:auto val="1"/>
        <c:lblAlgn val="ctr"/>
        <c:lblOffset val="100"/>
        <c:noMultiLvlLbl val="0"/>
      </c:catAx>
      <c:valAx>
        <c:axId val="24954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8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AEB-6E20-44C6-A45E-CDA2D09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71D-2F48-4186-A951-5D9DDFC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9B7-C68D-4219-9CBF-37123954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5F6-C842-41BE-8DC8-351E0AC5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094-ECBA-423B-BFF7-A169C766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6FB-13DB-43AB-913F-B450DA07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4EA-952E-4B1B-827F-1B91C5D4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05F-05DD-4E0F-9760-BD863975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70B-84CA-4C23-A320-68E1F01E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0FA-80AB-41C1-AC6B-B09B102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FD1-CAE7-46FF-821C-45979F9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17D-7767-4F48-A173-22DDE8B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52B9E-FD69-4FBB-8BAA-00EC7F8B4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